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5F5-A1F8-4AD0-95DB-9822D78D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54C-2411-45B4-A377-07981960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A0F-91C5-4D8C-B2D7-2E5E460A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0B3-046F-408E-9A13-CC51FAF2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F1EB-336F-482B-9226-A8EFD905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53B4-B2BB-4C99-91A9-828C3338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1E2B-09F6-47F9-B271-D1196349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0559-4FF3-45D6-9537-ACBA5070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BCF0-C22D-4ABA-9F91-5A0E09C6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451B-2698-46C3-93E8-AD190B37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B3D8-36EB-4B48-9E2B-584782B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98F-2639-4BEF-A0C1-C68C4E21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AC84-88DD-4959-BC70-D875DC36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1E1F-8E15-47EA-896A-08584FAE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C152-1017-440B-ACF2-45DADDBD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3A37-03B7-45CC-A1BE-65692315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8ADE-1602-4734-AAB8-9C51D7F0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6B8-C71F-48B3-90F7-CC32A955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DA9-E905-47D4-89CF-0FA8CE15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DFC-4AAA-4B91-BD05-350EF048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4E3-18CB-4DA2-ADF9-C38C05B7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B88-F84F-4DC5-BBEF-3EAECFD5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EF7-20E5-4BD5-9A9E-711F2EB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F37-8672-402B-8694-A2225AF0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BFD1-C45F-4C48-BB6A-117CA183570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BDCD-CC71-4505-9678-2D5E7EF7ABC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СИСТЕМЫ ПРОФИЛЯ Т.М. «ЭКОПЛАСТ» И КОНСТРУКТИВНЫЕ ПРЕИМУЩЕСТВ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Название системы : “Eco Plast™” «Классик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Количество камер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3 функциональные камеры в раме, створке и импост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Монтажная ширина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58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Габаритная высота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70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Перекрытие притвора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8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Количество контуров уплотнения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2 контура сплошного уплотнения из погодоустойчивого каучук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Толщина внешних стенок профиля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е менее 3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Теплоизоляционные характеристики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коэффициент сопротивления теплопередачи 0,58 м 2,0  С/Вт (рама), 0,61 м 2,0  С/Вт (створка) с армирование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Толщина стеклопакета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т 4 до 28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Шумоизоляция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т 30 до 40 дБ ( в зависимости от стеклопакета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Comic Sans MS"/>
              </a:rPr>
              <a:t>Коммерческое предложение от фирмы</a:t>
            </a:r>
            <a:r>
              <a:rPr b="1" i="1" lang="ru-RU" sz="4000" spc="-1" strike="noStrike">
                <a:solidFill>
                  <a:srgbClr val="ff6600"/>
                </a:solidFill>
                <a:latin typeface="Comic Sans MS"/>
              </a:rPr>
              <a:t>   «Олимпус+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1640" y="4038120"/>
            <a:ext cx="4343400" cy="26672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00"/>
                </a:solidFill>
                <a:uFillTx/>
                <a:latin typeface="Arial Black"/>
              </a:rPr>
              <a:t>Австрийские ок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Залог успех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Гарантия качест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3-х камерный профи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Выгодная це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Гибкая система скидок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00200"/>
          <a:ext cx="3962160" cy="5141880"/>
        </p:xfrm>
        <a:graphic>
          <a:graphicData uri="http://schemas.openxmlformats.org/drawingml/2006/table">
            <a:tbl>
              <a:tblPr/>
              <a:tblGrid>
                <a:gridCol w="1066680"/>
                <a:gridCol w="914400"/>
                <a:gridCol w="914400"/>
                <a:gridCol w="1066680"/>
              </a:tblGrid>
              <a:tr h="1004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6600"/>
                          </a:solidFill>
                          <a:latin typeface="Castellar"/>
                        </a:rPr>
                        <a:t>Окна профильной системы</a:t>
                      </a: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Castellar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astellar"/>
                        </a:rPr>
                        <a:t>«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stellar"/>
                        </a:rPr>
                        <a:t>EcoPlast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astellar"/>
                        </a:rPr>
                        <a:t>»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Изделие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Высота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Ширина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4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3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81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4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073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4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3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44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21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7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857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Цены указаны</a:t>
                      </a: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в грн.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762120" y="3276720"/>
            <a:ext cx="571320" cy="552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066680" y="327672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19320" y="3276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066320" y="3276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106632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962520"/>
            <a:ext cx="84780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396252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837720" y="39625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4191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37720" y="3962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648320"/>
            <a:ext cx="38124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5257800"/>
            <a:ext cx="45720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5638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38080" y="5257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3772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28600" y="0"/>
          <a:ext cx="8458200" cy="14475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8380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724280" y="152388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8T10:12:1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